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CB0-6EB6-4670-A449-C5F8FE98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647-D721-43DC-A925-BBEFCC9D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DFA-581E-4DE9-8C81-84F9FE69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1A3-50A9-4BF9-8660-2BB9A024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E505-A765-496B-AAD3-A5C1E940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74BE-BFC7-473A-B3C1-1427315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8EB3-AB3E-4F3D-9F45-647E5A66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9F2D-D77B-47F5-A098-3EFA05B3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483E-F19F-4C56-B4B7-B32C8D0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1795-4E5D-4BE5-B832-2D641BB6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5073-F16F-4EAF-8374-7650A45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035-C5E6-4199-8F33-E2B5EB13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4E27-2A7A-4A18-B4FC-14280B3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B03C-92F1-4B01-844D-DE8FB7F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8BC8-D1C9-4296-A80D-F05916A2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77DC-F2FA-4B12-B6C9-3D3A3C59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E78B-088C-40B5-A029-F2576657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E9E-34FC-4BD6-83C2-D5E5E68D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6BC-5167-4585-A59F-525535C0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908-CDDF-4E66-9225-9E12AD69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12F-D4F7-40B8-99CC-405DC47C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4AE-395A-4D10-ACB2-35DD401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AD7-790D-4373-A12F-437B37C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E30-8289-46A2-8638-57CE8514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F700-A198-4E6D-9472-408488BAAD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7F1A-0497-45F3-880D-E88C7607E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705720" y="5105520"/>
            <a:ext cx="1904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4495680"/>
            <a:ext cx="1905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27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33720" y="304920"/>
            <a:ext cx="38862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Lear Je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3962520"/>
            <a:ext cx="6019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sic: free play music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pocalysp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5/7/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0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learbar" descr="Lear"/>
          <p:cNvPicPr/>
          <p:nvPr/>
        </p:nvPicPr>
        <p:blipFill>
          <a:blip r:embed="rId1"/>
          <a:stretch/>
        </p:blipFill>
        <p:spPr>
          <a:xfrm>
            <a:off x="457200" y="563400"/>
            <a:ext cx="6095880" cy="3246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0" y="4419720"/>
            <a:ext cx="40384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Lemelson MIT program, Lear je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May,10,2010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Impact"/>
                <a:hlinkClick r:id="rId2"/>
              </a:rPr>
              <a:t>http://web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. Mit . Edulinventliowlcolt 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nventor William Lear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lliam was born in Missouri in 19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lliam attended a public school in Chic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lliam was including induction into the International Aerospace hall of f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e join the navy at age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lliam Lear die in  197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ey made the Lear jet after his last nam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62320" y="91440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w Cen MT Condensed Extra Bold"/>
              </a:rPr>
              <a:t>Lear J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514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The Lear jet  is still us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3526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The Lear jet was use in World War one</a:t>
            </a:r>
            <a:r>
              <a:rPr b="0" lang="en-US" sz="18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4343400"/>
            <a:ext cx="464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w Cen MT Condensed Extra Bold"/>
              </a:rPr>
              <a:t>the Lear jet takes a lot of fuel to run it and</a:t>
            </a:r>
            <a:r>
              <a:rPr b="1" lang="en-US" sz="18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every one hour they need to fuel it up again</a:t>
            </a:r>
            <a:r>
              <a:rPr b="1" lang="en-US" sz="1800" spc="-1" strike="noStrike">
                <a:solidFill>
                  <a:srgbClr val="ffffff"/>
                </a:solidFill>
                <a:latin typeface="Tw Cen MT Condensed Extra Bol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5627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638680"/>
            <a:ext cx="464832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 Condensed Extra Bold"/>
              </a:rPr>
              <a:t>The Lear jet is a very famous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w Cen MT Condensed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7:39:48Z</dcterms:created>
  <dc:creator>install</dc:creator>
  <dc:description/>
  <dc:language>en-US</dc:language>
  <cp:lastModifiedBy>install</cp:lastModifiedBy>
  <dcterms:modified xsi:type="dcterms:W3CDTF">2010-05-12T17:41:34Z</dcterms:modified>
  <cp:revision>13</cp:revision>
  <dc:subject/>
  <dc:title>Slide 1</dc:title>
</cp:coreProperties>
</file>